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Isla Apo está en las Filipin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Los arrecifes restaurados y la abundancia de peces atrajeron a los turistas a la Isla A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Con el turismo se desarrollaron nuevas empresas, como son pequeños hoteles, tours en lancha, y la venta de play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La economía turística financió mejoras a las escuelas, becas y oportunidades para que los jóvenes estudien gestión de ecosistemas marin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La Isla Apo se convirtió en una comunidad pujante.  Al ganar confianza con sus acciones, se implementaron programas de educación ambiental y planificación familiar y surgieron organizaciones comunitari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os isleños de Apo restauraron sus arrecifes, protegieron sus peces, y rescataron su forma de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 </a:t>
            </a: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Los isleños de Apo siempre habían vivido de la pesca alrededor de su is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os métodos destructivos de pesca (como la dinamita en esta foto) y la sobrepesca destruyeron los arrecifes coralinos y acabaron con la población de pe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Biólogos marinos y miembros de la comunidad diseñaron un santuario mar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Cada familia envía representantes a las reuniones sobre la administración del santu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os pescadores utilizan canoas para trabajar, incluso si tienen que viajar largas distancias para pesc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Cuando los pescadores decidieron dejar de utilizar métodos destructivos, regresaron a las artes tradicionales de pesca, como los anzuelos y las tramp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f1f1f"/>
                </a:solidFill>
                <a:latin typeface="Verdana"/>
                <a:ea typeface="Verdana"/>
              </a:rPr>
              <a:t>La población de peces alrededor de la Isla Apo incrementó de manera dramática a los pocos años que los pescadores comenzaron a gestionar activamente su pesquería prohibiendo la pesca destructiva y la sobrepes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Cuando utilizaron métodos destructivos, solo capturaban peces pequeños (foto a la izquierda).  A diez años de que comenzaron a gestionar su pesquería al prohibir la pesca destructiva y la sobrepesca, hubo una abundancia de peces grandes (foto a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5511-88C2-4770-B85F-01C14E448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D217-5D63-4BFB-9ADB-3FE136A5C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D0DD-E9BE-4CEE-B094-D83FF49AC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8208-CE31-4760-90D9-F63E61BBD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8E9F-8626-48B3-8B27-B5977287D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F004-EEE3-42D9-B794-955189B5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A930-83A3-4927-A309-0F09AB0E8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E583-C2B7-4B4E-8D5B-58CEC264B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172A-01DD-4704-9F31-3C605E176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6643-DA60-481A-A2D5-B9B74E8F3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4C26-832D-4E99-96CB-0EC0C5F5C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8C76-0D9E-4B00-B716-7FFC21B00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2A0-DF38-4025-90C7-6226423B70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470480" y="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497480" y="3505320"/>
            <a:ext cx="464652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48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rcRect l="0" t="25004" r="21916" b="5555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rcRect l="1444" t="1860" r="1436" b="1860"/>
          <a:stretch/>
        </p:blipFill>
        <p:spPr>
          <a:xfrm>
            <a:off x="0" y="990720"/>
            <a:ext cx="4648320" cy="35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4876920" y="1003320"/>
            <a:ext cx="42670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rcRect l="0" t="0" r="0" b="2598"/>
          <a:stretch/>
        </p:blipFill>
        <p:spPr>
          <a:xfrm>
            <a:off x="457200" y="152280"/>
            <a:ext cx="82296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rcRect l="0" t="0" r="2441" b="0"/>
          <a:stretch/>
        </p:blipFill>
        <p:spPr>
          <a:xfrm>
            <a:off x="4800600" y="1600200"/>
            <a:ext cx="4343400" cy="3273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1612800"/>
            <a:ext cx="472428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rcRect l="4675" t="0" r="0" b="0"/>
          <a:stretch/>
        </p:blipFill>
        <p:spPr>
          <a:xfrm>
            <a:off x="4800600" y="762120"/>
            <a:ext cx="4343400" cy="341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4570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3416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rcRect l="0" t="311" r="0" b="0"/>
          <a:stretch/>
        </p:blipFill>
        <p:spPr>
          <a:xfrm>
            <a:off x="5322960" y="0"/>
            <a:ext cx="3821040" cy="288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6448" t="1682" r="1587" b="0"/>
          <a:stretch/>
        </p:blipFill>
        <p:spPr>
          <a:xfrm>
            <a:off x="5334120" y="3803760"/>
            <a:ext cx="3809880" cy="305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0" y="685800"/>
            <a:ext cx="43704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4267080" y="0"/>
            <a:ext cx="4876920" cy="691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5616" t="5939" r="6418" b="6989"/>
          <a:stretch/>
        </p:blipFill>
        <p:spPr>
          <a:xfrm>
            <a:off x="0" y="16765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2004 Test Drive User</dc:creator>
  <dc:description/>
  <dc:language>en-US</dc:language>
  <cp:lastModifiedBy>Gerry Marten</cp:lastModifiedBy>
  <dcterms:modified xsi:type="dcterms:W3CDTF">2010-10-08T22:53:55Z</dcterms:modified>
  <cp:revision>2</cp:revision>
  <dc:subject/>
  <dc:title>Apo Island</dc:title>
</cp:coreProperties>
</file>